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967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0"/>
            <a:ext cx="2966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677440"/>
            <a:ext cx="2967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C0BC4-2790-413C-9137-CA92E67061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BDA7-6786-440B-8588-547EBE9812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06FD1-DDEA-4EA9-AFB3-F225079C7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FB146-097F-48EC-908B-66D5264455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3F689-EE93-4D16-8585-E6318DD21A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BDA9-2856-438A-8169-2E501AF2F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1CF9-4FD2-4F5B-BED9-50E679BCD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1F37-B331-4175-9800-E011081C9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948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256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948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256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6F6D-5034-4C7D-9091-C13A0EB4B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5880"/>
            <a:ext cx="7935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2820-CD7C-4EC1-85FE-09F2EA8F8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948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2560" y="2276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948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2560" y="5885280"/>
            <a:ext cx="25549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7693-B7E2-440A-A2BC-679744A68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B362-955C-49DF-B9D0-70F701725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094B-AFC1-40B9-97B9-E67B4C963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5880"/>
            <a:ext cx="7935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4BF5-3978-4744-8A4B-A688B9CEA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256B-EE02-46AF-84F7-355B3F9C1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2960" y="5885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E4D6-DEED-4A9A-A467-1CA8C6A1B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2960" y="2276280"/>
            <a:ext cx="387252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5885280"/>
            <a:ext cx="793584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C3D1-7684-4A9E-B1CF-D69222661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35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3584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200" y="6381360"/>
            <a:ext cx="212724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F893A572-DD38-4743-A482-B24831ABA32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24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51FE62AA-6A0A-4617-8DAF-4AA48012082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8720" y="1517760"/>
            <a:ext cx="76309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sluitvorming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: RGBZ 1.0 en StUF ZKN 03.10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: StUF protocolbindingen 030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4859280"/>
            <a:ext cx="6945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 Kla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recht, 25 november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F Regiegroe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5560" y="6381720"/>
            <a:ext cx="2128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A8FD863B-6ADF-48F2-8AEE-FC3FCC45ADF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8040" y="752400"/>
            <a:ext cx="79419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936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tstellen 'In Gebruik'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GBZ 1.0 en het bijbehoren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F Sectormodel StUF ZKN 3.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2517840"/>
            <a:ext cx="79423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een nieuwe versie van een StUF onderdeel gereed is, stellen de StUF Expertgroep en de StUF Regiegroep de status 'In Gebruik' vast.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vaststelling worden gebruikers en ICT-leveranciers opgeroepen deze nieuwe versie op te nemen in software en in gebruik te ne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uit: StUF Beheermodel en releasebele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5040360"/>
            <a:ext cx="630072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sluit: De StUF RG heeft besloten om StUF ZK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tUF protocolbindingen aan te houde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nog niet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status "In gebruik" te gev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aansluiting op de (versies van) OSB-standaard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is namelijk niet voldoende helder en afgestem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25560" y="6381720"/>
            <a:ext cx="2128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E73E34BE-AFE4-41E7-8385-8C8EDAFC77A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8040" y="752400"/>
            <a:ext cx="79419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936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tstellen 'In Gebruik'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StUF protocolbindingen 0301”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v.m. het opnemen van binaire bij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517840"/>
            <a:ext cx="79423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een nieuwe versie van een StUF onderdeel gereed is, stellen de StUF Expertgroep en de StUF Regiegroep de status 'In Gebruik' vast.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vaststelling worden gebruikers en ICT-leveranciers opgeroepen deze nieuwe versie op te nemen in software en in gebruik te ne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uit: StUF Beheermodel en releasebele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5040360"/>
            <a:ext cx="6300720" cy="1439640"/>
          </a:xfrm>
          <a:prstGeom prst="roundRect">
            <a:avLst>
              <a:gd name="adj" fmla="val 10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sluit: De StUF RG heeft besloten om StUF ZK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tUF protocolbindingen aan te houden 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nog niet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status "In gebruik" te gev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aansluiting op de (versies van) OSB-standaard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is namelijk niet voldoende helder en afgestem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25560" y="6381720"/>
            <a:ext cx="2128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3F1317B2-C2B4-4F84-ADFC-142430BF382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6400" y="876240"/>
            <a:ext cx="79390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56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ol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2033640"/>
            <a:ext cx="793908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ocumenten gereed maken voor public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ublicat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bsite E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ieuwsbericht EGEM (e/o KING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den StUF/RSGB commu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GEM stuurgro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+comm. kanalen van RG leden zelf..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pecifieke onderwerp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de communicati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4880" indent="-344520">
              <a:lnSpc>
                <a:spcPct val="87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…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Klaver</dc:creator>
  <dc:description/>
  <dc:language>en-US</dc:language>
  <cp:lastModifiedBy>Peter</cp:lastModifiedBy>
  <dcterms:modified xsi:type="dcterms:W3CDTF">2009-11-26T06:29:53Z</dcterms:modified>
  <cp:revision>52</cp:revision>
  <dc:subject/>
  <dc:title>Vaststelling RSGB, StUF ZKN</dc:title>
</cp:coreProperties>
</file>